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wmf" ContentType="image/x-wmf"/>
  <Override PartName="/ppt/media/hammer.wav" ContentType="audio/x-wav"/>
  <Override PartName="/ppt/media/cashreg.wav" ContentType="audio/x-wav"/>
  <Override PartName="/ppt/media/suction.wav" ContentType="audio/x-wav"/>
  <Override PartName="/ppt/media/image4.jpeg" ContentType="image/jpeg"/>
  <Override PartName="/ppt/media/image10.wmf" ContentType="image/x-wmf"/>
  <Override PartName="/ppt/media/drumroll.wav" ContentType="audio/x-wav"/>
  <Override PartName="/ppt/media/image3.jpeg" ContentType="image/jpeg"/>
  <Override PartName="/ppt/media/arrow.wav" ContentType="audio/x-wav"/>
  <Override PartName="/ppt/media/laser.wav" ContentType="audio/x-wav"/>
  <Override PartName="/ppt/media/image2.wmf" ContentType="image/x-wmf"/>
  <Override PartName="/ppt/media/push.wav" ContentType="audio/x-wav"/>
  <Override PartName="/ppt/media/voltage.wav" ContentType="audio/x-wav"/>
  <Override PartName="/ppt/media/type.wav" ContentType="audio/x-wav"/>
  <Override PartName="/ppt/media/explode.wav" ContentType="audio/x-wav"/>
  <Override PartName="/ppt/media/camera.wav" ContentType="audio/x-wav"/>
  <Override PartName="/ppt/media/bomb.wav" ContentType="audio/x-wav"/>
  <Override PartName="/ppt/media/chimes.wav" ContentType="audio/x-wav"/>
  <Override PartName="/ppt/media/image7.wmf" ContentType="image/x-wmf"/>
  <Override PartName="/ppt/media/image9.wmf" ContentType="image/x-wmf"/>
  <Override PartName="/ppt/media/click.wav" ContentType="audio/x-wav"/>
  <Override PartName="/ppt/media/image8.jpeg" ContentType="image/jpeg"/>
  <Override PartName="/ppt/media/whoosh.wav" ContentType="audio/x-wav"/>
  <Override PartName="/ppt/media/image5.wmf" ContentType="image/x-wmf"/>
  <Override PartName="/ppt/media/breeze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885-3FE5-4D2F-BD55-CCD5C1BF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BFD-08AE-4FAA-9484-BEC96A07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5CA-5C82-4E47-B5DC-600E9EB5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444-5722-4015-987A-7C40FD35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686-8BF8-4567-9E88-F59B4191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4A7-8C56-4227-92C9-132C20C7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7F98-FE6F-4AB5-9861-62F74A8B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6DF-C4E3-4A31-9E6A-C34E5315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D7D-A54D-4B8B-B8A7-3377B054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953-5E5E-4CE7-A885-AE954638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1AB-B10C-4DBB-ACC0-68121786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343-23A7-4B38-959D-E88135EB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73DB-3D76-43FA-B4B4-181072D35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omb.wav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hammer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ashreg.wav"/><Relationship Id="rId4" Type="http://schemas.openxmlformats.org/officeDocument/2006/relationships/audio" Target="../media/voltage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push.wav"/><Relationship Id="rId1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suction.wav"/><Relationship Id="rId3" Type="http://schemas.openxmlformats.org/officeDocument/2006/relationships/audio" Target="../media/click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darvill.clara.net/altenerg/tidal.htm" TargetMode="External"/><Relationship Id="rId3" Type="http://schemas.openxmlformats.org/officeDocument/2006/relationships/hyperlink" Target="http://www.darvill.clara.net/altenerg/hydro.htm" TargetMode="External"/><Relationship Id="rId4" Type="http://schemas.openxmlformats.org/officeDocument/2006/relationships/hyperlink" Target="http://www1.eere.energy.gov/windandhydro/" TargetMode="External"/><Relationship Id="rId5" Type="http://schemas.openxmlformats.org/officeDocument/2006/relationships/hyperlink" Target="http://www1.eere.energy.gov/windandhydro/" TargetMode="External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bomb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solidFill>
            <a:srgbClr val="00ffcc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Hydro-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Shawn, Alex, and La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D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s are used to transfer water energy to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makes the generator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cycles keep dams fu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276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33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59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No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More reliable than oth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Can increase to full power ver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3786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792600"/>
            <a:ext cx="45720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5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3333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ls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dams is expen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ams may f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hard to find a suitable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ality and quantity of the water may 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2757240" cy="958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52880" y="3809880"/>
            <a:ext cx="403884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49" repeatCount="10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Motion origin="layout" path="M -0.09757 0.10179 C -0.19097 -0.00624 -0.2842 -0.11404 -0.33177 -0.13486 C -0.37934 -0.15568 -0.39878 -0.05574 -0.38351 -0.02359 C -0.36823 0.00856 -0.29548 0.0842 -0.23993 0.05807 C -0.18437 0.03193 -0.10243 -0.20818 -0.05052 -0.1802 C 0.00139 -0.15221 0.13281 0.17858 0.0717 0.22577 C 0.01059 0.27296 -0.33507 0.12445 -0.41771 0.1034 C -0.50035 0.08212 -0.48802 0.11266 -0.42361 0.09878 C -0.3592 0.0849 -0.09219 0.03378 -0.03055 0.02036 C 0.03108 0.00694 -0.05399 0.02105 -0.05417 0.01874 C -0.05434 0.01643 -0.04028 0.00671 -0.03177 0.00625 C -0.02326 0.00579 -0.02847 0.01088 -0.00347 0.01573 C 0.02153 0.02059 0.12431 0.03702 0.11875 0.03609 C 0.1132 0.03516 -0.00243 -0.02035 -0.03646 0.00949 C -0.07048 0.03933 -0.07691 0.21513 -0.08594 0.21467 C -0.09496 0.21421 -0.17587 0.02984 -0.09062 0.00625 C -0.00538 -0.01735 0.35174 -0.06083 0.42587 0.07356 C 0.5 0.20796 0.36702 0.68703 0.35417 0.81194 C 0.34132 0.93685 0.40729 0.95837 0.34827 0.82304 C 0.28924 0.68772 0.05816 0.13718 -3.33333E-006 -3.39116E-006 E">
                                      <p:cBhvr>
                                        <p:cTn id="10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newable or n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! Hydro-electricity is the most renewable energy source there is. It does not create any carbon dioxide like some of the other energy 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62720" y="2438280"/>
            <a:ext cx="35812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9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Contributing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006600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arvill.clara.net/altenerg/tidal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rvill.clara.net/altenerg/hydro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1.eere.energy.gov/windandhydr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540400" y="1447920"/>
            <a:ext cx="1962000" cy="2166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257800" y="4359240"/>
            <a:ext cx="2743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4:17:52Z</dcterms:created>
  <dc:creator>default</dc:creator>
  <dc:description/>
  <dc:language>en-US</dc:language>
  <cp:lastModifiedBy>default</cp:lastModifiedBy>
  <dcterms:modified xsi:type="dcterms:W3CDTF">2008-02-12T15:08:32Z</dcterms:modified>
  <cp:revision>6</cp:revision>
  <dc:subject/>
  <dc:title>Hydro-Electricity</dc:title>
</cp:coreProperties>
</file>